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E50-2689-4DB7-913F-01CD8A88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3D0-07DB-4141-8377-1AE7C573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D9A-1E4F-4473-83EA-F05DE47F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042-06E8-4550-984C-40B8A405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A05-9EA0-40BE-AB6C-CCE5547A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53F-C7B4-4502-82E5-13F4C8DC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B050-D37F-467D-8BBD-79EF2DE4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A19-A5CC-4B20-ACD1-560CF626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2F1-5B22-4731-AFCF-BDA9D4A8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199-C9B9-45A7-AE85-782CC959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F53-BC05-4180-B6A0-CA89A687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4CB3-120D-4697-91D7-1B2314C6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0F42-F6B8-472C-A983-A179D53BC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6218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7:26:50Z</dcterms:created>
  <dc:creator>Maxwell Matt</dc:creator>
  <dc:description/>
  <dc:language>en-US</dc:language>
  <cp:lastModifiedBy>Maxwell Matt</cp:lastModifiedBy>
  <dcterms:modified xsi:type="dcterms:W3CDTF">2009-02-13T17:12:33Z</dcterms:modified>
  <cp:revision>2</cp:revision>
  <dc:subject/>
  <dc:title>PowerPoint Presentation</dc:title>
</cp:coreProperties>
</file>