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7B2-D729-4B0D-95FA-1C9729DD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F12-47DF-49A3-A201-0C115F1B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CB40-160A-42EF-807C-CDCAD39B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364-B7F9-476C-94A2-2A6F41E8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4282-7BFD-41D4-ACEE-4DC586E2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C9DE-29BF-4864-A320-08FBE5B3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9E91-14AB-4A36-A1E1-CE059770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7C54-ADC0-429A-A396-9DA82EC2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B734-3568-447A-8034-0A7D8957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4C8-6ABE-4389-AB5E-607987FA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C90-3CE0-4C12-B0EB-41090E6A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506-1709-4644-AF23-D2110608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5942-5B9C-4CB0-A2F3-52DCDDE6A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3047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6218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7:26:50Z</dcterms:created>
  <dc:creator>Maxwell Matt</dc:creator>
  <dc:description/>
  <dc:language>en-US</dc:language>
  <cp:lastModifiedBy>Maxwell Matt</cp:lastModifiedBy>
  <dcterms:modified xsi:type="dcterms:W3CDTF">2009-02-13T17:12:33Z</dcterms:modified>
  <cp:revision>2</cp:revision>
  <dc:subject/>
  <dc:title>PowerPoint Presentation</dc:title>
</cp:coreProperties>
</file>