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E44F-2723-47DB-9CDA-CE10644F3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CD93-9B70-4957-8BAD-A1B16BE24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DD73-E079-4221-B61E-84A4C5E6B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24EC-7F12-4C83-A0A7-C7E1A286C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E6B2-2CB2-4701-8794-93CE07470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2134-09FE-4F56-B734-92EAF563B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06D7-E92B-4550-B46E-A285D72FD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783B-5697-4A4F-AD9F-6F5D768EA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2C88-8DC5-4EA8-8443-2045801F2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E749-E43B-45D0-B742-5EE68B6F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A68A-CEA4-4B7D-86A5-9704BDD3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BE5D-DEE3-422C-84D5-62922AAF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9436F-7FB5-4B4B-AA3D-71A7A4E848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30477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62182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17:26:50Z</dcterms:created>
  <dc:creator>Maxwell Matt</dc:creator>
  <dc:description/>
  <dc:language>en-US</dc:language>
  <cp:lastModifiedBy>Maxwell Matt</cp:lastModifiedBy>
  <dcterms:modified xsi:type="dcterms:W3CDTF">2009-02-13T17:12:33Z</dcterms:modified>
  <cp:revision>2</cp:revision>
  <dc:subject/>
  <dc:title>PowerPoint Presentation</dc:title>
</cp:coreProperties>
</file>